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2B79-F4AE-4FDF-B1D0-C32FC09C8F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D567-618C-49FD-A394-7D576FA0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4020-E999-4983-8A43-BBEB06EC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30FC5-37BC-438D-89AB-368484110A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62FC2-F6D7-4270-9350-3215B5A4FB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EDC2D-A536-4907-B8C4-76BCFDF5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E49C5-9301-4CC8-B0AB-092AB941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953E5-D754-47DA-AF53-D35A080C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E8CC0-8A02-4470-A9FC-53118429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E21BE-4109-4AFA-AB99-A9213FB7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07275-9DE0-4384-8223-38DCA5B8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02D1-01C9-4352-BDBC-E05751BA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71788-361F-4F39-8418-2D94FD90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59DEE-2AD1-496D-98DB-A62DA4E5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DD862-B33F-478D-AC39-5330DB3C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F6BC0-2CDD-4C6C-B15B-96DB437A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853E1-E6A1-41BB-810C-D9005BEFFD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47F1-EF7A-48E2-A911-AF74B5D6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06D6-691C-4A7A-A891-C713956C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D69F-2372-468B-BFE5-717F3FE2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E6E8C-7775-490B-9083-DB4BED06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D535-A6C6-4E81-8112-F041C891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F9BF-512B-429E-804A-D53D2BD6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BA783-3E7B-4E7C-8062-B6607D39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608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5C46B07F-6C83-4718-806B-A9ED53A15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608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BD1885C1-A267-4C1E-9E92-C7EA17346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1640" y="434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rganizational Contex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, Structure, and 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over.jpg"/>
          <p:cNvPicPr/>
          <p:nvPr/>
        </p:nvPicPr>
        <p:blipFill>
          <a:blip r:embed="rId1"/>
          <a:stretch/>
        </p:blipFill>
        <p:spPr>
          <a:xfrm>
            <a:off x="357120" y="2568600"/>
            <a:ext cx="260208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55523-90BD-4D45-B0DD-F12141164C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s of Organizational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organizations – group people performing similar activities int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rganizations – group people int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oject team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emporary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organizations – create a dual hierarchy in which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unctions and project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qual promin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7F78-000E-406E-8C25-BC5F04176B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9880" y="252000"/>
            <a:ext cx="84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Structures for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229600" cy="4002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>
                      <a:noFill/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</a:tr>
              <a:tr h="352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m’s design mainta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sters development of in-depth 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career pa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eam members remain connected with their functional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>
                      <a:noFill/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 silo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customer foc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may take lon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may be sub-optimiz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C3CF-CC4E-4DAF-A001-DC4A47CC52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tructures for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600200"/>
          <a:ext cx="8229600" cy="4467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</a:tr>
              <a:tr h="394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manager sole autho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ecision-ma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on of project management expe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ive to set up and maintain te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ce of loyalty to the project rather than the fi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ool of specific 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rs unassigned at project 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88F1-43EB-414E-832E-DBAA56E0D8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Structures for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8229600" cy="4281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</a:tr>
              <a:tr h="382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ed to dynamic environ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 emphasis on project management and functional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coordination across functional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es scarce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 hierarchies mean two bo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tiation required in order to share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rs caught between competing project &amp; functional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37379-7DF9-49DE-8E1A-5246D8D4C2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vyweight Project Organ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can sometimes gain tremendous benefit from creating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ully-dedicated project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heed Corporation’s “Skunkwor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ager authority exp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lignment abandoned in favor of market opportu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external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D84B-38FD-4007-B67F-F82C24D47C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Management Off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ed units that oversee or improve the management of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center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details offloaded from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 in project 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of lessons learned,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project management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19A4-3B1C-43F0-B2AF-BC48EAE1D1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s of P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station – monitoring and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tower – project management is a skill to be protected and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pool – maintain and provide a cadre of skilled project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FA9A-7846-494C-B2A8-08DDA9D3BA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al 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nwritte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u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behavior, or norms that are used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hape and guide behav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shared by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me subset of organiza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and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aught to all new member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comp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factors that affect cultu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al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organizational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in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E39A-6FC8-433D-8290-8CE89B67D6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ltural In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organizational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in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2401-9109-41D1-AFB0-7E4C028E17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e Affects Project Manag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commitment to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104FC-F720-4BC0-A7FE-0491A920BF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s and Organizational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management – the science of formulating, implementing and evaluating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ross-functional deci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 a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chieve it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vision and mission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ing, implementing and evalu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cross functional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5F019-8D47-4B1B-B384-B4EE01AF3E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copyright"/>
          <p:cNvPicPr/>
          <p:nvPr/>
        </p:nvPicPr>
        <p:blipFill>
          <a:blip r:embed="rId1"/>
          <a:stretch/>
        </p:blipFill>
        <p:spPr>
          <a:xfrm>
            <a:off x="0" y="2136600"/>
            <a:ext cx="9144000" cy="28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E3ED-84E3-4650-ABF4-AD110AF745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s Reflect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8920" y="3716280"/>
          <a:ext cx="8229600" cy="2151000"/>
        </p:xfrm>
        <a:graphic>
          <a:graphicData uri="http://schemas.openxmlformats.org/drawingml/2006/table">
            <a:tbl>
              <a:tblPr/>
              <a:tblGrid>
                <a:gridCol w="4267080"/>
                <a:gridCol w="3962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irm wishing to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have a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velop products or processe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engineer products or process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strategic direction or product portfolio configurat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reate new product lin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cross-organizational communication &amp; 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stall an enterprise IT syst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55"/>
          <p:cNvSpPr/>
          <p:nvPr/>
        </p:nvSpPr>
        <p:spPr>
          <a:xfrm>
            <a:off x="468360" y="1592280"/>
            <a:ext cx="752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ping ston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rpor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m’s strategic development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riving forc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ind projec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D294-037A-46FB-9610-796FF9129F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onship of Strategic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324000" y="562464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1371600" y="1219320"/>
            <a:ext cx="5638680" cy="4419360"/>
            <a:chOff x="1371600" y="1219320"/>
            <a:chExt cx="5638680" cy="4419360"/>
          </a:xfrm>
        </p:grpSpPr>
        <p:sp>
          <p:nvSpPr>
            <p:cNvPr id="91" name="AutoShape 4"/>
            <p:cNvSpPr/>
            <p:nvPr/>
          </p:nvSpPr>
          <p:spPr>
            <a:xfrm>
              <a:off x="1371600" y="1219320"/>
              <a:ext cx="5638680" cy="441936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3564000" y="220500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3348000" y="3537000"/>
              <a:ext cx="19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3600360" y="494172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5003640" y="4941720"/>
              <a:ext cx="180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gr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9"/>
            <p:cNvSpPr/>
            <p:nvPr/>
          </p:nvSpPr>
          <p:spPr>
            <a:xfrm>
              <a:off x="1871640" y="494172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2195640" y="4365720"/>
              <a:ext cx="399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1"/>
            <p:cNvSpPr/>
            <p:nvPr/>
          </p:nvSpPr>
          <p:spPr>
            <a:xfrm>
              <a:off x="2951280" y="3176640"/>
              <a:ext cx="248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3348000" y="4365720"/>
              <a:ext cx="0" cy="12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3"/>
            <p:cNvSpPr/>
            <p:nvPr/>
          </p:nvSpPr>
          <p:spPr>
            <a:xfrm>
              <a:off x="4824360" y="4365720"/>
              <a:ext cx="0" cy="12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16EB-899E-48DA-8C26-5E77619E16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keholder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rs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ll individuals or group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have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ctive stak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oject and can potentially impact, eith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sitively or negativ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s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s of project stakeholder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31640" y="3608280"/>
            <a:ext cx="356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team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392720" y="3608280"/>
            <a:ext cx="4487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, political, consumer, and other interveno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E598-E739-4F9C-B1D5-FC7C26C9AE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akeholder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6360" y="3753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3"/>
          <p:cNvGrpSpPr/>
          <p:nvPr/>
        </p:nvGrpSpPr>
        <p:grpSpPr>
          <a:xfrm>
            <a:off x="1116000" y="1449360"/>
            <a:ext cx="6948360" cy="4528800"/>
            <a:chOff x="1116000" y="1449360"/>
            <a:chExt cx="6948360" cy="4528800"/>
          </a:xfrm>
        </p:grpSpPr>
        <p:sp>
          <p:nvSpPr>
            <p:cNvPr id="108" name="Text Box 4"/>
            <p:cNvSpPr/>
            <p:nvPr/>
          </p:nvSpPr>
          <p:spPr>
            <a:xfrm>
              <a:off x="3456000" y="3537000"/>
              <a:ext cx="1476360" cy="7855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5"/>
            <p:cNvSpPr/>
            <p:nvPr/>
          </p:nvSpPr>
          <p:spPr>
            <a:xfrm>
              <a:off x="1116000" y="2023920"/>
              <a:ext cx="14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ther Functional Manag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6084720" y="1952640"/>
              <a:ext cx="16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ternal 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5435640" y="5192640"/>
              <a:ext cx="1476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1908000" y="5553000"/>
              <a:ext cx="14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ount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6408720" y="357336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p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3384720" y="1449360"/>
              <a:ext cx="158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ent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AutoShape 12"/>
            <p:cNvCxnSpPr>
              <a:stCxn id="106" idx="3"/>
              <a:endCxn id="108" idx="1"/>
            </p:cNvCxnSpPr>
            <p:nvPr/>
          </p:nvCxnSpPr>
          <p:spPr>
            <a:xfrm>
              <a:off x="2052360" y="3936600"/>
              <a:ext cx="1391040" cy="39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16" name="AutoShape 14"/>
            <p:cNvCxnSpPr>
              <a:stCxn id="108" idx="3"/>
              <a:endCxn id="113" idx="1"/>
            </p:cNvCxnSpPr>
            <p:nvPr/>
          </p:nvCxnSpPr>
          <p:spPr>
            <a:xfrm flipV="1">
              <a:off x="4944960" y="3893760"/>
              <a:ext cx="1464480" cy="46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17" name="AutoShape 15"/>
            <p:cNvCxnSpPr>
              <a:stCxn id="108" idx="0"/>
              <a:endCxn id="114" idx="2"/>
            </p:cNvCxnSpPr>
            <p:nvPr/>
          </p:nvCxnSpPr>
          <p:spPr>
            <a:xfrm flipH="1" flipV="1">
              <a:off x="4176360" y="2090520"/>
              <a:ext cx="18000" cy="1434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18" name="AutoShape 16"/>
            <p:cNvCxnSpPr/>
            <p:nvPr/>
          </p:nvCxnSpPr>
          <p:spPr>
            <a:xfrm>
              <a:off x="2555640" y="3033720"/>
              <a:ext cx="851400" cy="465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19" name="Line 17"/>
            <p:cNvSpPr/>
            <p:nvPr/>
          </p:nvSpPr>
          <p:spPr>
            <a:xfrm flipV="1">
              <a:off x="4967280" y="2673360"/>
              <a:ext cx="104472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5003640" y="4400640"/>
              <a:ext cx="97344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 flipV="1">
              <a:off x="2700360" y="4473720"/>
              <a:ext cx="107964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21"/>
          <p:cNvSpPr/>
          <p:nvPr/>
        </p:nvSpPr>
        <p:spPr>
          <a:xfrm>
            <a:off x="324000" y="562464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989C-C820-40A0-9CB4-2E9DFD1D4B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ing Stakeh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goals of the principal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your own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and refine th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EC9D-4DAC-4D4F-855B-82D7A3D0D5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3520" y="17892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Stakeholder Management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324000" y="562464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5"/>
          <p:cNvGrpSpPr/>
          <p:nvPr/>
        </p:nvGrpSpPr>
        <p:grpSpPr>
          <a:xfrm>
            <a:off x="2089080" y="1019160"/>
            <a:ext cx="5834160" cy="5148360"/>
            <a:chOff x="2089080" y="1019160"/>
            <a:chExt cx="5834160" cy="5148360"/>
          </a:xfrm>
        </p:grpSpPr>
        <p:grpSp>
          <p:nvGrpSpPr>
            <p:cNvPr id="128" name="Group 24"/>
            <p:cNvGrpSpPr/>
            <p:nvPr/>
          </p:nvGrpSpPr>
          <p:grpSpPr>
            <a:xfrm>
              <a:off x="2089080" y="1019160"/>
              <a:ext cx="5834160" cy="5148360"/>
              <a:chOff x="2089080" y="1019160"/>
              <a:chExt cx="5834160" cy="5148360"/>
            </a:xfrm>
          </p:grpSpPr>
          <p:sp>
            <p:nvSpPr>
              <p:cNvPr id="129" name="Oval 5"/>
              <p:cNvSpPr/>
              <p:nvPr/>
            </p:nvSpPr>
            <p:spPr>
              <a:xfrm>
                <a:off x="2235240" y="1019160"/>
                <a:ext cx="5688000" cy="5148360"/>
              </a:xfrm>
              <a:prstGeom prst="ellipse">
                <a:avLst/>
              </a:prstGeom>
              <a:solidFill>
                <a:srgbClr val="fffff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23"/>
              <p:cNvGrpSpPr/>
              <p:nvPr/>
            </p:nvGrpSpPr>
            <p:grpSpPr>
              <a:xfrm>
                <a:off x="2089080" y="1230480"/>
                <a:ext cx="5761080" cy="4727520"/>
                <a:chOff x="2089080" y="1230480"/>
                <a:chExt cx="5761080" cy="4727520"/>
              </a:xfrm>
            </p:grpSpPr>
            <p:sp>
              <p:nvSpPr>
                <p:cNvPr id="131" name="Oval 6"/>
                <p:cNvSpPr/>
                <p:nvPr/>
              </p:nvSpPr>
              <p:spPr>
                <a:xfrm>
                  <a:off x="4202280" y="2851200"/>
                  <a:ext cx="1549440" cy="1479600"/>
                </a:xfrm>
                <a:prstGeom prst="ellipse">
                  <a:avLst/>
                </a:prstGeom>
                <a:solidFill>
                  <a:srgbClr val="fffff7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7"/>
                <p:cNvSpPr/>
                <p:nvPr/>
              </p:nvSpPr>
              <p:spPr>
                <a:xfrm>
                  <a:off x="4199040" y="3200400"/>
                  <a:ext cx="1531800" cy="81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ject Management T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8"/>
                <p:cNvSpPr/>
                <p:nvPr/>
              </p:nvSpPr>
              <p:spPr>
                <a:xfrm>
                  <a:off x="4081680" y="1371600"/>
                  <a:ext cx="1922400" cy="66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dentify Stakehold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9"/>
                <p:cNvSpPr/>
                <p:nvPr/>
              </p:nvSpPr>
              <p:spPr>
                <a:xfrm>
                  <a:off x="5632560" y="2076480"/>
                  <a:ext cx="1922400" cy="93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Gather Information on Stakehold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10"/>
                <p:cNvSpPr/>
                <p:nvPr/>
              </p:nvSpPr>
              <p:spPr>
                <a:xfrm>
                  <a:off x="4599000" y="4756320"/>
                  <a:ext cx="1920960" cy="12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etermine Stakeholder Strengths &amp; Weakness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11"/>
                <p:cNvSpPr/>
                <p:nvPr/>
              </p:nvSpPr>
              <p:spPr>
                <a:xfrm>
                  <a:off x="2606760" y="2076480"/>
                  <a:ext cx="1917720" cy="12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mplement Stakeholder Management Strateg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12"/>
                <p:cNvSpPr/>
                <p:nvPr/>
              </p:nvSpPr>
              <p:spPr>
                <a:xfrm>
                  <a:off x="5931000" y="3627360"/>
                  <a:ext cx="1919160" cy="93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dentify Stakeholders’ Miss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13"/>
                <p:cNvSpPr/>
                <p:nvPr/>
              </p:nvSpPr>
              <p:spPr>
                <a:xfrm>
                  <a:off x="2089080" y="3487680"/>
                  <a:ext cx="191952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edict Stakeholder Behavio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14"/>
                <p:cNvSpPr/>
                <p:nvPr/>
              </p:nvSpPr>
              <p:spPr>
                <a:xfrm>
                  <a:off x="2975040" y="4546440"/>
                  <a:ext cx="1917720" cy="93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dentify Stakeholder Strateg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15"/>
                <p:cNvSpPr/>
                <p:nvPr/>
              </p:nvSpPr>
              <p:spPr>
                <a:xfrm flipH="1" flipV="1">
                  <a:off x="3862440" y="1300320"/>
                  <a:ext cx="811440" cy="162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6"/>
                <p:cNvSpPr/>
                <p:nvPr/>
              </p:nvSpPr>
              <p:spPr>
                <a:xfrm flipV="1">
                  <a:off x="5338800" y="1230480"/>
                  <a:ext cx="811440" cy="1692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7"/>
                <p:cNvSpPr/>
                <p:nvPr/>
              </p:nvSpPr>
              <p:spPr>
                <a:xfrm flipV="1">
                  <a:off x="5781600" y="3134880"/>
                  <a:ext cx="2068560" cy="281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8"/>
                <p:cNvSpPr/>
                <p:nvPr/>
              </p:nvSpPr>
              <p:spPr>
                <a:xfrm>
                  <a:off x="5559480" y="4122720"/>
                  <a:ext cx="1330200" cy="1409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20"/>
                <p:cNvSpPr/>
                <p:nvPr/>
              </p:nvSpPr>
              <p:spPr>
                <a:xfrm flipH="1">
                  <a:off x="2679480" y="3911760"/>
                  <a:ext cx="1623960" cy="1055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1"/>
                <p:cNvSpPr/>
                <p:nvPr/>
              </p:nvSpPr>
              <p:spPr>
                <a:xfrm flipH="1" flipV="1">
                  <a:off x="2311200" y="3206880"/>
                  <a:ext cx="1919160" cy="209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" name="Line 19"/>
            <p:cNvSpPr/>
            <p:nvPr/>
          </p:nvSpPr>
          <p:spPr>
            <a:xfrm flipH="1">
              <a:off x="4389120" y="4305600"/>
              <a:ext cx="369720" cy="1762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BD44-07C4-4D76-ACF3-AA9026E533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al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6040" y="145692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three key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ates formal repor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levels in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into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s into the tot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of system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across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2E7C-793D-4DC2-A8A1-0592A4ED25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0:53:58Z</dcterms:created>
  <dc:creator>Geoff Willis</dc:creator>
  <dc:description/>
  <dc:language>en-US</dc:language>
  <cp:lastModifiedBy>KS</cp:lastModifiedBy>
  <dcterms:modified xsi:type="dcterms:W3CDTF">2009-08-15T22:13:41Z</dcterms:modified>
  <cp:revision>48</cp:revision>
  <dc:subject/>
  <dc:title>The Organizational Context: Strategy, Structure, and Culture</dc:title>
</cp:coreProperties>
</file>